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3849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8FE8-A2C0-4E7F-B228-B55D73B9C4A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3626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143000" y="3808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59436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37840" y="5334120"/>
            <a:ext cx="241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itle,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9 Pearson Education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886200" y="6286680"/>
            <a:ext cx="113040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9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Causal-Comparative 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1973160"/>
            <a:ext cx="724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efly state the purpose of causal–comparative research and describe the similarities and differences among causal–comparative, correlational, and experimental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causal-comparative research topics, and describe the basic causal–comparative de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-comparative studies are sometimes conducted to identify variables worthy of experimental investig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several limitations of causal-comparative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xperimenter has limited contr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tion in interpretation is necessary as cause-effect relations cannot be esta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relations are esta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-comparative studies can be conducted when variables cannot or should not be experimentally manipul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-comparative studies can facilitate decision mak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-comparative studies can provide insight into conducted or potential experimental stud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-comparative studies are generally less costly than are experimental studi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2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ducting a Causal-Comparative Stud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asic causal-comparative design involves selecting two groups that differ on a variable of interest and comparing them on a dependent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tion and selection of comparison groups is critical in causal-comparative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2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ducting a Causal-Comparative Stud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ing variables must be operationally defined (e.g., training versus no training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should test for differences between groups (e.g., prior knowledg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ore similar the groups are on extraneous variables, the fewer alternative explanations there may be for research find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2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ducting a Causal-Comparative Stud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causal-comparative desig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ne design:  One group is exposed to an independent variable while the other group is not.  Both groups are measured on a dependent vari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second design:  Two groups are exposed to different independent conditions.  Both groups are then measured on a dependent vari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2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ducting a Causal-Comparative Stud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several control procedures that researchers can employ to strengthen their causal-comparative desig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ing: Researchers can attempt to equate groups and control for one or more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a researcher comparing two types of instruction might control for prior achievement.  To do this, he would do pair-wise matching and would place an equal number of high achieving students in each condi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2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ducting a Causal-Comparative Stud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ing homogeneous groups or subgroups:  Researchers can also compare groups that are homogeneous with respect to an extraneous variable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 the researcher may select only high-achieving students for his study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 of Covariance (ANCOVA):  Researchers can use this statistical technique to adjust scores on a dependent variable for initial differences on a related vari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the researcher could measure prior knowledge and use those scores as a covariat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ducting a Causal-Comparative Stud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alysis and interpre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ve and inferential statistics are used to analyze data from causal-comparative studi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 statistics often include the mean and the standard devi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ential tests used include t-tests, analyses of variance, and chi squa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9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Causal-Comparative 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1973160"/>
            <a:ext cx="724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and describe three types of control procedures that can be used in a causal–comparative study, and explain why the results of causal–comparative studies must be interpreted very cautiously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causal-comparative research the researcher attempts to determine the cause or reason for existing differences in groups or individu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ed groups are different on some variable and the researcher seeks to identify the factor that leads to the differ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 post fac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or after the fact,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ospective casual-comparative research studies start with effects and investigate cau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common in educational re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A researcher interested in the benefits of an exercise program on reducing stress may select a group of people who had enrolled in a stress-reduction exercise class and those who had not and compares their stress leve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pective casual-comparative research studies start with the causes and investigate the effe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effect of X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A researcher may hypothesize that those children that attend dance classes during elementary school have higher self-esteem when in middle school. She would identify a group of middle-school children who had dance classes in elementary school and a group of those who did not, and compare their self-esteem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-comparative research does not establish cause-effect rel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-comparative research generally includes more than two groups and at least one dependent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ausal-comparative research the independent variable is not manipulated by the researc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dependent variable has occurred or is already form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pendent variable in causal-comparative studies is often referred to as the grouping variab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of variables investigated in causal-comparative stud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smic variables (e.g., age, ethnicity, se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variables (e.g., achiev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ity variables (e.g., self-concep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mily-related variables (e.g., 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ool-related variables(e.g., type of school, size of sch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practic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ify the following examples of variables investigated in causal-comparative stud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nicity, birth order, spatial ability, teacher education level, goal ori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nicity (organismic), birth order (family-related), spatial ability (ability), teacher education level (school-related), goal orientation (persona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5T21:06:24Z</dcterms:modified>
  <cp:revision>57</cp:revision>
  <dc:subject/>
  <dc:title>AutoCAD Architecture 2008: Part I: Getting Started</dc:title>
</cp:coreProperties>
</file>